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DC0-5F2C-4100-9F1E-7C612CCB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9EF-89B8-4A79-AE40-849811D6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27DA-FFB0-4261-BEAE-22657ED8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3FD-233F-4B72-9161-FB563293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E9AA-2419-4FF5-8DB0-FD9C2F52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5DF7-E28E-4D60-A307-14BC7DE7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DB4D-EEF3-45E6-9BFB-311215FE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5611-1459-4B33-854E-3A17A5B1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7E85-06AB-43C0-ACC5-57352D0F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93DE-4E4B-4586-9BE7-C87A3E16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94EB-CCCA-46B0-8DEF-BA38AE04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819-212F-4B81-9614-B8350974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EAF8-CCA6-41B3-8412-A65C047E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77F1-6779-4F24-B83D-EF368E28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ADF9-896C-4BAC-A435-A3D7711F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2AC3-6325-42BE-8C1A-7014C25C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8483-DF29-4FBA-97F9-388CC295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5CB-A375-4940-AE73-C378E70F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A6D-3F0F-4208-AB35-B6EC63A5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744-EC4B-443C-AAF2-010B9E3D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1FD-A77B-4F45-9E9C-26FEFAF0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A3F-6A70-4103-8959-B2EFA37B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C7F-6106-476C-8A6F-324A39D5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79F-E9F3-4EE0-93A3-2CA4858E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BF8A-4DE4-419A-B9E3-08FE739F9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40C5-9FD6-4906-A3CA-403B86A4CA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teral Equ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teral equ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is an equation that contains two or mor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olve for the indicated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1) Solve ½ bh = A, for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) P = 2L + 2w, for 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3) ax + b = cx + d, for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) ax + b = cx + d, for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I = P(1 +rt) for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I = P(1 +rt) for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50760" y="2209680"/>
          <a:ext cx="3583080" cy="10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0760" y="2209680"/>
                    <a:ext cx="3583080" cy="1009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27" dir="8100000" blurRad="0" rotWithShape="0">
                      <a:srgbClr val="ffffff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8:17:14Z</dcterms:created>
  <dc:creator>PA Department of Education</dc:creator>
  <dc:description/>
  <dc:language>en-US</dc:language>
  <cp:lastModifiedBy>Parkland High School</cp:lastModifiedBy>
  <dcterms:modified xsi:type="dcterms:W3CDTF">2010-09-22T13:00:39Z</dcterms:modified>
  <cp:revision>4</cp:revision>
  <dc:subject/>
  <dc:title>1.5 Literal Equations </dc:title>
</cp:coreProperties>
</file>